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874-9C08-47FF-A481-5B1136A5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0F9-1F76-4634-8778-CB34A3E5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CB3A-F47C-4820-ABDD-5EE4C684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AA4-9C8F-4CE2-ABB6-6F2EDAC2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137-97C8-46B2-A883-E4267205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366-BDBB-483F-9C31-1EE13A4D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D90-BA65-4EB6-9907-CE3EE29C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C02F-832A-4B4A-8C6A-75D4D2DD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E79-B9A9-4C13-A9C6-D4AB6B49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983-8637-4C42-B89D-A5883FF6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5D2-F470-4608-BE24-7803EBE7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252-DFB3-464B-9BF8-4A0601D4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CF46-A0E9-4834-8172-900CE796F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9 Pán Boh tvoj žia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bre pozn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Boh tvoj žiaľ dobre poz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o tvojej bolesti 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dí, že niečo ťa trápi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eď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ad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tebou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aždý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čas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bdie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úcit má s tebou a túž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ateľom tvojím sa st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 všetkým obráť sa naň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pomôže, veď má ťa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Boh je pri tebe blízk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počuje, ver, nie si s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úžení každom ho vzýv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s dôverou hľaď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nebe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kúškach on silu ti 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lkom sa spoľahni na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e dbá o tvoje bla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os: Tvoja len vôľa sa staň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Boh ťa miluje vrúc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, za každých okolno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eba dal Syna svoj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môžeš žiť vo ve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tvoj záchranca ver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tvoj nebeský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mu prvé daj miest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raduj 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čne ho chvá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8T10:45:27Z</dcterms:modified>
  <cp:revision>21</cp:revision>
  <dc:subject/>
  <dc:title>Je veľký náš Pán, on slávy je Kráľ Nech do všetkých strán  spev vrúcnych znie chvál.</dc:title>
</cp:coreProperties>
</file>